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101-4AD5-4D77-9A7E-A4DD29AD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347-97E1-4F06-AF3F-36F35DAF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90A-7E16-458D-BD23-865BD4BE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0DD-F526-4199-9F37-BEE80343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3A3-2B99-437D-B153-13F17CC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73E-3144-4D3F-96D1-AF267A97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827-0642-4967-A7BD-5B326627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CC8-CCD7-4EDA-962A-40D90D14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4E3-BAAE-4042-81ED-7601589E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3B2-0A74-4586-8EB2-DC2AE353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E08-8F5C-4571-AE59-F7341389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5A9-9544-4071-87C2-F6BF51B6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CA8D-6FB0-44CC-8B32-A6A6822F2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31F7-F7BC-4C1E-976F-737A56C96B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Quer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17) – запрос о наличии в сети членов групп. Запросы обо всех имеющихся группах – общие запросы – отправляются по адресу 224.0.0.1 ("всем узлам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Re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2) – уведомление о наличии в сети члена группы (отправляется хостом – членом группы по адресу групп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Leave Grou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3) – уведомление об отсоединении хоста от группы (отправляется отсоединившимся хостом по адресу 224.0.0.2 – "всем маршрутизаторам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Типы IG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616F-C413-4DDD-8D14-91AFC0C8E0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еерная рассылк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– наиболее простой метод маршрутизации групповых дейтаграмм, при котором дейтаграмма рассылается во все сети системы независимо от наличия в той или иной сети членов группы. При поступлении групповой дейтаграммы маршрутизатор проверяет, впервые ли он получает эту дейтаграмму. Если да, то маршрутизатор рассылает дейтаграмму через все свои интерфейсы, кроме того, с которого она была получена. Иначе дейтаграмма игнорир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еерная рассылка (Floo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58C3-C719-40DD-BCFB-A8277A1331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Остовые деревья (Spanning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8785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C5A0-4256-46F7-86AB-EC5A1BF2B6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RPF (Reverse Path Forwar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8560" y="728640"/>
            <a:ext cx="54025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90A8-27A1-4B62-8632-2A4798CE1F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BT (Core Based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302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4084-7833-4204-8936-0F0BF6953B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DVMR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istance Vector Multicast Routing Protocol) – самый старый протокол групповой маршрутизации, он используется в ядре экспериментальной сети MBONE. Протокол работает по технологии RPF с усечением, но для построения деревьев используется собственный дистанционно-векторный протокол, аналогичный протоколу 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4. 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2A79-3DC2-4031-A45A-ECD8EA1ED8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MOSP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Multicast OSPF) является расширением протокола OSPF. Маршрутизатор, поддерживающий это расширение, устанавливает бит "М" в поле "Options" сообщения "Hello". В базе данных состояния связей вводится дополнительный тип записи: для указанной сети перечисляются все группы, члены которых есть в этой сети. Эти записи, как и все прочие записи базы данных состояния связей, распространяются по системе сетей с помощью протокола веерной рас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3DC1-0FA4-430B-960C-C7896ACE05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) – два протокола групповой маршрутизации (для плотного и разреженного расположения членов групп, соответственно dense mode и sparse mode), не зависящие от используемого протокола "обычной" маршрут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D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IM Dense Mode) используется в системах сетей с большой плотностью получ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EEEE-80CD-4F11-AEFE-939366CC18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S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, Sparse mode, RFC-2362) применяется для маршрутизации дейтаграмм для малочисленных групп, члены которых находятся далеко друг от друга (в этом случае недостатки метода RPF с усечением становятся существенным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ункционирование протокола можно кратко описать как метод CBT, переходящий в RP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EBFA-4EAB-4513-B9FD-701CFBA317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именение того или иного протокола групповой маршрутизации существенно зависит от того, плотно или разреженно расположены получатели группового трафика. Для плотного расположения годятся протоколы DVMRP, MOSPF и PIM DM; для разреженного подходят PIM SM и CB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б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Мультикаст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Укажите основную проблему в задаче передачи мульти­кастингового т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отличие случаев редкого и плотного расположения получателей мультикастинговых дейтаграмм с точки зрения методов их 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протокол используется для отправки IP-дейтаграмм множеству хостов в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адреса, назначены для использования мультикастин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основной недостаток использования групповой рассылки на транспортн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веерная рассыл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PIM 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Williamson B. "Developing IP Multicast Networks, Volume I".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сновные сведения о мультикастин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ротокол IG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Маршрутизация групповых дейтагра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ротоколы маршрутизации групповых дейта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9A23-05C3-455C-9244-81CE54EFBD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ультикастинг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casting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называется рассылка дейтаграмм группе получателей. Для идентификации групп используются специальные адреса получателя; эти адреса назначаются из класса D в диапазоне 224.0.0.0 – 239.255.255.2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ейтаграмма, направленная на групповой адрес, должна быть доставлена всем участникам группы. В дальнейшем в этой главе такие дейтаграммы мы будем называть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групповы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Основны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0FDE-B926-4994-85A5-B7D1DBECD9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 – все узл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2 – все маршрутизатор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5 – вс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6 – выделенны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9 – маршрутизаторы RIP-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0 – IGRP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1.1 – получатели информации по протоколу точного времени NT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резервированные групповые адре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F6E7-EC9C-43EF-A345-9792168289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организации IP-сети с поддержкой мультикастинга необходимо следующее (RFC-111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мультикастинга в стеке TCP/IP расположенных в сети хост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групповой или широковещательной рассылки на уровне доступа к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DE57-3ED9-4AD1-9D7A-F063C6C627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G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Group Memebership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назначен для регистрации на маршрутизаторе членов групп, находящихся в непосредственно присоединенных к нему сетях. Имея эту информацию, маршрутизатор может сообщать другим маршрутизаторам (с помощью протоколов групповой маршрутизации) о необходимости пересылки ему дейтаграмм для тех или ины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8D26-6B9A-4BB3-9C6B-6E2FF19E5A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GMP работает непосредственно поверх протокола IP, и идентифицируется значением 2 в поле "Protocol" заголовка IP-дейт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A58D-1210-452B-BD71-EFE4C2ADF6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133720"/>
            <a:ext cx="8424720" cy="40669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yp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тип со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ax Response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максимальное время отклика, задествовано только в сообщениях типа Membership Qu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hecksum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(16 бит) – контрольная сум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roup 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2 бита) – групповой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е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8920" y="907920"/>
            <a:ext cx="84610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27Z</dcterms:modified>
  <cp:revision>167</cp:revision>
  <dc:subject/>
  <dc:title>Lecture Template </dc:title>
</cp:coreProperties>
</file>